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0080625" cy="7199313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2E6BE-1814-4C35-9F20-0C0D736FEA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907272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720" y="4070880"/>
            <a:ext cx="907272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2C512-3A23-42C8-8553-C741DEFEF3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472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376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D1F86-646C-44DE-B005-C60C4165CB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72280" y="148284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39840" y="148284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720" y="407088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72280" y="407088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39840" y="407088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AB4E6-D26B-4210-A3A1-4E3BEBE61C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04720" y="1482840"/>
            <a:ext cx="9072720" cy="49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907272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04720" y="122040"/>
            <a:ext cx="9072720" cy="45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72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4720" y="1482840"/>
            <a:ext cx="9072720" cy="49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E3B82-5F0A-4641-ABD8-02429DCFF4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5376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4720" y="4070880"/>
            <a:ext cx="907272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907272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720" y="4070880"/>
            <a:ext cx="907272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0472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5376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72280" y="148284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639840" y="148284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04720" y="407088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72280" y="407088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639840" y="407088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907272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F8F32-DC8A-4370-854A-E7DC662242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188C5-24B1-4278-8F99-5302D3522F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B9F18-C058-4C6C-A5ED-59831BB0D1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4720" y="122040"/>
            <a:ext cx="9072720" cy="45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6BD8D-D169-40BF-9C5C-461BFC8E29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72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B5DC8-865A-4F0C-B95A-A8D372CB9A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376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A4CFC-75A0-4C8B-BC24-6CBCEB2614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720" y="4070880"/>
            <a:ext cx="907272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7EA00-5548-49C3-AE86-B64C9D1101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Comic Sans MS"/>
              </a:rPr>
              <a:t>Click to edit the title text format</a:t>
            </a: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482840"/>
            <a:ext cx="907272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75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Click to edit the outline text format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1" marL="801720" indent="-308160">
              <a:spcBef>
                <a:spcPts val="751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Second Outline Leve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2" marL="1235160" indent="-247680">
              <a:spcBef>
                <a:spcPts val="751"/>
              </a:spcBef>
              <a:buClr>
                <a:srgbClr val="99ccff"/>
              </a:buClr>
              <a:buSzPct val="6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Third Outline Leve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3" marL="1728720" indent="-247680"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Fourth Outline Leve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4" marL="2222640" indent="-247680">
              <a:spcBef>
                <a:spcPts val="751"/>
              </a:spcBef>
              <a:buClr>
                <a:srgbClr val="0066ff"/>
              </a:buClr>
              <a:buSzPct val="80000"/>
              <a:buFont typeface="Wingdings" charset="2"/>
              <a:buChar char="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Fifth Outline Leve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5" marL="2222640" indent="-2476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Sixth Outline Leve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6" marL="2222640" indent="-2476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Seventh Outline Leve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52360" cy="2400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04720" y="1104840"/>
            <a:ext cx="8904240" cy="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00480"/>
            <a:ext cx="252360" cy="2400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4800600"/>
            <a:ext cx="252360" cy="24004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9247320" y="272880"/>
            <a:ext cx="610920" cy="6811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287280" y="6408720"/>
            <a:ext cx="9793440" cy="79236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4103280" y="6719400"/>
            <a:ext cx="2352600" cy="481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  <a:defRPr b="0" lang="fr-FR" sz="1100" spc="-1" strike="noStrike">
                <a:solidFill>
                  <a:srgbClr val="000099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C581B784-B759-4007-88CF-2E825EB4848A}" type="slidenum">
              <a:rPr b="0" lang="fr-FR" sz="1100" spc="-1" strike="noStrike">
                <a:solidFill>
                  <a:srgbClr val="000099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18920" y="1007640"/>
            <a:ext cx="8569080" cy="2233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6300" spc="-1" strike="noStrike">
                <a:solidFill>
                  <a:srgbClr val="0066ff"/>
                </a:solidFill>
                <a:latin typeface="Comic Sans MS"/>
              </a:rPr>
              <a:t>Click to edit the title text format</a:t>
            </a:r>
            <a:endParaRPr b="0" lang="en-US" sz="63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46" name=""/>
          <p:cNvSpPr/>
          <p:nvPr/>
        </p:nvSpPr>
        <p:spPr>
          <a:xfrm>
            <a:off x="220680" y="3456000"/>
            <a:ext cx="3164040" cy="210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384720" y="3456000"/>
            <a:ext cx="3163680" cy="210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48400" y="3456000"/>
            <a:ext cx="3164040" cy="2109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247320" y="272880"/>
            <a:ext cx="610920" cy="681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252360" cy="2400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400480"/>
            <a:ext cx="252360" cy="2400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800600"/>
            <a:ext cx="252360" cy="24004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87280" y="6408720"/>
            <a:ext cx="9793440" cy="7923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04000" y="1684800"/>
            <a:ext cx="9071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493560" indent="0" algn="ctr">
              <a:spcBef>
                <a:spcPts val="64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600" spc="-1" strike="noStrike">
                <a:solidFill>
                  <a:srgbClr val="0066ff"/>
                </a:solidFill>
                <a:latin typeface="Comic Sans MS"/>
              </a:rPr>
              <a:t>Second Outline Level</a:t>
            </a:r>
            <a:endParaRPr b="0" lang="en-US" sz="2600" spc="-1" strike="noStrike">
              <a:solidFill>
                <a:srgbClr val="0066ff"/>
              </a:solidFill>
              <a:latin typeface="Comic Sans MS"/>
            </a:endParaRPr>
          </a:p>
          <a:p>
            <a:pPr lvl="2" marL="987480" algn="ctr">
              <a:spcBef>
                <a:spcPts val="550"/>
              </a:spcBef>
              <a:buClr>
                <a:srgbClr val="99ccff"/>
              </a:buClr>
              <a:buSzPct val="65000"/>
              <a:buFont typeface="Wingdings" charset="2"/>
              <a:buChar char=""/>
              <a:tabLst>
                <a:tab algn="l" pos="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Third Outline Level</a:t>
            </a:r>
            <a:endParaRPr b="0" lang="en-US" sz="2200" spc="-1" strike="noStrike">
              <a:solidFill>
                <a:srgbClr val="000099"/>
              </a:solidFill>
              <a:latin typeface="Comic Sans MS"/>
            </a:endParaRPr>
          </a:p>
          <a:p>
            <a:pPr lvl="3" marL="1481040" algn="ctr">
              <a:spcBef>
                <a:spcPts val="476"/>
              </a:spcBef>
              <a:buClr>
                <a:srgbClr val="000099"/>
              </a:buClr>
              <a:buFont typeface="Wingdings" charset="2"/>
              <a:buChar char=""/>
              <a:tabLst>
                <a:tab algn="l" pos="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99"/>
                </a:solidFill>
                <a:latin typeface="Comic Sans MS"/>
              </a:rPr>
              <a:t>Fourth Outline Level</a:t>
            </a:r>
            <a:endParaRPr b="0" lang="en-US" sz="1900" spc="-1" strike="noStrike">
              <a:solidFill>
                <a:srgbClr val="000099"/>
              </a:solidFill>
              <a:latin typeface="Comic Sans MS"/>
            </a:endParaRPr>
          </a:p>
          <a:p>
            <a:pPr lvl="4" marL="1974960" algn="ctr">
              <a:spcBef>
                <a:spcPts val="275"/>
              </a:spcBef>
              <a:buClr>
                <a:srgbClr val="0066ff"/>
              </a:buClr>
              <a:buSzPct val="80000"/>
              <a:buFont typeface="Wingdings" charset="2"/>
              <a:buChar char=""/>
              <a:tabLst>
                <a:tab algn="l" pos="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100" spc="-1" strike="noStrike">
                <a:solidFill>
                  <a:srgbClr val="000099"/>
                </a:solidFill>
                <a:latin typeface="Comic Sans MS"/>
              </a:rPr>
              <a:t>Fifth Outline Level</a:t>
            </a:r>
            <a:endParaRPr b="0" lang="en-US" sz="1100" spc="-1" strike="noStrike">
              <a:solidFill>
                <a:srgbClr val="000099"/>
              </a:solidFill>
              <a:latin typeface="Comic Sans MS"/>
            </a:endParaRPr>
          </a:p>
          <a:p>
            <a:pPr lvl="5" marL="1974960">
              <a:spcBef>
                <a:spcPts val="275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99"/>
                </a:solidFill>
                <a:latin typeface="Comic Sans MS"/>
              </a:rPr>
              <a:t>Sixth Outline Level</a:t>
            </a:r>
            <a:endParaRPr b="0" lang="en-US" sz="1100" spc="-1" strike="noStrike">
              <a:solidFill>
                <a:srgbClr val="000099"/>
              </a:solidFill>
              <a:latin typeface="Comic Sans MS"/>
            </a:endParaRPr>
          </a:p>
          <a:p>
            <a:pPr lvl="6" marL="1974960">
              <a:spcBef>
                <a:spcPts val="275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99"/>
                </a:solidFill>
                <a:latin typeface="Comic Sans MS"/>
              </a:rPr>
              <a:t>Seventh Outline Level</a:t>
            </a:r>
            <a:endParaRPr b="0" lang="en-US" sz="11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6000" y="791640"/>
            <a:ext cx="9864720" cy="2233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6600" spc="-1" strike="noStrike">
                <a:solidFill>
                  <a:srgbClr val="0066ff"/>
                </a:solidFill>
                <a:latin typeface="Comic Sans MS"/>
              </a:rPr>
              <a:t>Programme Hôpital</a:t>
            </a:r>
            <a:endParaRPr b="0" lang="en-US" sz="66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584000" y="4176360"/>
            <a:ext cx="7056360" cy="23209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6000" spc="-1" strike="noStrike">
                <a:solidFill>
                  <a:srgbClr val="000099"/>
                </a:solidFill>
                <a:latin typeface="Comic Sans MS"/>
              </a:rPr>
              <a:t>Réunion éditeurs du 11 juin 2008</a:t>
            </a:r>
            <a:endParaRPr b="0" lang="en-US" sz="6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5640" y="0"/>
            <a:ext cx="9072360" cy="982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4000" spc="-1" strike="noStrike">
                <a:solidFill>
                  <a:srgbClr val="0066ff"/>
                </a:solidFill>
                <a:latin typeface="Comic Sans MS"/>
              </a:rPr>
              <a:t>Point de situation sur la certification</a:t>
            </a:r>
            <a:endParaRPr b="0" lang="en-US" sz="40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7280" y="1584360"/>
            <a:ext cx="9793440" cy="4680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Comic Sans MS"/>
              </a:rPr>
              <a:t>Certification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69720"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1" marL="801720" indent="-30816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800" spc="-1" strike="noStrike">
                <a:solidFill>
                  <a:srgbClr val="0066ff"/>
                </a:solidFill>
                <a:latin typeface="Comic Sans MS"/>
              </a:rPr>
              <a:t>16 certificats délivrés pour le JE 022003-B</a:t>
            </a:r>
            <a:endParaRPr b="0" lang="en-US" sz="28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0">
              <a:spcBef>
                <a:spcPts val="70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8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-308160">
              <a:spcBef>
                <a:spcPts val="649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600" spc="-1" strike="noStrike">
                <a:solidFill>
                  <a:srgbClr val="0066ff"/>
                </a:solidFill>
                <a:latin typeface="Comic Sans MS"/>
              </a:rPr>
              <a:t>22 certificats délivrés pour le JE 062005-A</a:t>
            </a:r>
            <a:endParaRPr b="0" lang="en-US" sz="26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0">
              <a:spcBef>
                <a:spcPts val="24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000" spc="-1" strike="noStrike">
              <a:solidFill>
                <a:srgbClr val="0066ff"/>
              </a:solidFill>
              <a:latin typeface="Comic Sans MS"/>
            </a:endParaRPr>
          </a:p>
          <a:p>
            <a:pPr lvl="2" marL="1235160" indent="-247680">
              <a:spcBef>
                <a:spcPts val="550"/>
              </a:spcBef>
              <a:buClr>
                <a:srgbClr val="99ccff"/>
              </a:buClr>
              <a:buSzPct val="65000"/>
              <a:buFont typeface="Wingdings" charset="2"/>
              <a:buChar char="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200" spc="-1" strike="noStrike">
                <a:solidFill>
                  <a:srgbClr val="000099"/>
                </a:solidFill>
                <a:latin typeface="Comic Sans MS"/>
              </a:rPr>
              <a:t>L’ensemble des produits certifiés intègre la participation forfaitaire 1 euro</a:t>
            </a:r>
            <a:endParaRPr b="0" lang="en-US" sz="2200" spc="-1" strike="noStrike">
              <a:solidFill>
                <a:srgbClr val="000099"/>
              </a:solidFill>
              <a:latin typeface="Comic Sans MS"/>
            </a:endParaRPr>
          </a:p>
          <a:p>
            <a:pPr lvl="2" marL="1235160" indent="0">
              <a:spcBef>
                <a:spcPts val="275"/>
              </a:spcBef>
              <a:buNone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100" spc="-1" strike="noStrike">
              <a:solidFill>
                <a:srgbClr val="000099"/>
              </a:solidFill>
              <a:latin typeface="Comic Sans MS"/>
            </a:endParaRPr>
          </a:p>
          <a:p>
            <a:pPr lvl="1" marL="801720" indent="-308160">
              <a:spcBef>
                <a:spcPts val="649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600" spc="-1" strike="noStrike">
                <a:solidFill>
                  <a:srgbClr val="0066ff"/>
                </a:solidFill>
                <a:latin typeface="Comic Sans MS"/>
              </a:rPr>
              <a:t>4 dossiers sont en cours </a:t>
            </a:r>
            <a:endParaRPr b="0" lang="en-US" sz="2600" spc="-1" strike="noStrike">
              <a:solidFill>
                <a:srgbClr val="0066ff"/>
              </a:solidFill>
              <a:latin typeface="Comic Sans MS"/>
            </a:endParaRPr>
          </a:p>
          <a:p>
            <a:pPr marL="369720"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72DA4-171B-4A80-B252-4C325B09BD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5640" y="0"/>
            <a:ext cx="9072360" cy="982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4000" spc="-1" strike="noStrike">
                <a:solidFill>
                  <a:srgbClr val="0066ff"/>
                </a:solidFill>
                <a:latin typeface="Comic Sans MS"/>
              </a:rPr>
              <a:t>Point de situation sur la certification</a:t>
            </a:r>
            <a:endParaRPr b="0" lang="en-US" sz="40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16000" y="1512360"/>
            <a:ext cx="9864720" cy="49546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Comic Sans MS"/>
              </a:rPr>
              <a:t>Évolution de la certification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801720" indent="-30816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800" spc="-1" strike="noStrike">
                <a:solidFill>
                  <a:srgbClr val="0066ff"/>
                </a:solidFill>
                <a:latin typeface="Comic Sans MS"/>
              </a:rPr>
              <a:t>Mise à disposition sur le site du CNDA du JE B2 </a:t>
            </a:r>
            <a:endParaRPr b="0" lang="en-US" sz="28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0">
              <a:spcBef>
                <a:spcPts val="700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800" spc="-1" strike="noStrike">
                <a:solidFill>
                  <a:srgbClr val="0066ff"/>
                </a:solidFill>
                <a:latin typeface="Comic Sans MS"/>
              </a:rPr>
              <a:t>06-2005-B opposable à partir du 1er juin 2008.</a:t>
            </a:r>
            <a:endParaRPr b="0" lang="en-US" sz="28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-30816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800" spc="-1" strike="noStrike">
                <a:solidFill>
                  <a:srgbClr val="0066ff"/>
                </a:solidFill>
                <a:latin typeface="Comic Sans MS"/>
              </a:rPr>
              <a:t>Décision en cours de signature</a:t>
            </a:r>
            <a:endParaRPr b="0" lang="en-US" sz="2800" spc="-1" strike="noStrike">
              <a:solidFill>
                <a:srgbClr val="0066ff"/>
              </a:solidFill>
              <a:latin typeface="Comic Sans MS"/>
            </a:endParaRPr>
          </a:p>
          <a:p>
            <a:pPr lvl="2" marL="1235160" indent="-247680">
              <a:spcBef>
                <a:spcPts val="601"/>
              </a:spcBef>
              <a:buClr>
                <a:srgbClr val="99ccff"/>
              </a:buClr>
              <a:buSzPct val="65000"/>
              <a:buFont typeface="Wingdings" charset="2"/>
              <a:buChar char="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Comic Sans MS"/>
              </a:rPr>
              <a:t>Fin de la certification des normes B2 2003 et B2 06-2005A au 31 août 2008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lvl="2" marL="1235160" indent="-247680">
              <a:spcBef>
                <a:spcPts val="601"/>
              </a:spcBef>
              <a:buClr>
                <a:srgbClr val="99ccff"/>
              </a:buClr>
              <a:buSzPct val="65000"/>
              <a:buFont typeface="Wingdings" charset="2"/>
              <a:buChar char="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Comic Sans MS"/>
              </a:rPr>
              <a:t>Les éditeurs qui ont déposé un dossier au CNDA avec le jeu d’essai dans ces 2 normes ont </a:t>
            </a:r>
            <a:r>
              <a:rPr b="0" lang="fr-FR" sz="2400" spc="-1" strike="noStrike" u="sng">
                <a:solidFill>
                  <a:srgbClr val="000099"/>
                </a:solidFill>
                <a:uFillTx/>
                <a:latin typeface="Comic Sans MS"/>
              </a:rPr>
              <a:t>1 mois </a:t>
            </a:r>
            <a:r>
              <a:rPr b="0" lang="fr-FR" sz="2400" spc="-1" strike="noStrike">
                <a:solidFill>
                  <a:srgbClr val="000099"/>
                </a:solidFill>
                <a:latin typeface="Comic Sans MS"/>
              </a:rPr>
              <a:t>pour terminer la procédure.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lvl="1" marL="801720" indent="0">
              <a:spcBef>
                <a:spcPts val="601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4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47215-3EB7-4AA3-89D3-307957E0FCB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5640" y="0"/>
            <a:ext cx="9072360" cy="982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4000" spc="-1" strike="noStrike">
                <a:solidFill>
                  <a:srgbClr val="0066ff"/>
                </a:solidFill>
                <a:latin typeface="Comic Sans MS"/>
              </a:rPr>
              <a:t>Point de situation sur la certification</a:t>
            </a:r>
            <a:endParaRPr b="0" lang="en-US" sz="40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907272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700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Comic Sans MS"/>
              </a:rPr>
              <a:t>Procédure de certification pour le JE 06-2005 B (à périmètre fonctionnel identique)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69720" indent="0">
              <a:spcBef>
                <a:spcPts val="30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200" spc="-1" strike="noStrike">
              <a:solidFill>
                <a:srgbClr val="000099"/>
              </a:solidFill>
              <a:latin typeface="Comic Sans MS"/>
            </a:endParaRPr>
          </a:p>
          <a:p>
            <a:pPr lvl="1" marL="801720" indent="-30816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400" spc="-1" strike="noStrike">
                <a:solidFill>
                  <a:srgbClr val="0066ff"/>
                </a:solidFill>
                <a:latin typeface="Comic Sans MS"/>
              </a:rPr>
              <a:t>Nouveau logiciel  </a:t>
            </a:r>
            <a:endParaRPr b="0" lang="en-US" sz="24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0">
              <a:spcBef>
                <a:spcPts val="249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1000" spc="-1" strike="noStrike">
                <a:solidFill>
                  <a:srgbClr val="0066ff"/>
                </a:solidFill>
                <a:latin typeface="Comic Sans MS"/>
              </a:rPr>
              <a:t>	</a:t>
            </a:r>
            <a:endParaRPr b="0" lang="en-US" sz="10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-30816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400" spc="-1" strike="noStrike">
                <a:solidFill>
                  <a:srgbClr val="0066ff"/>
                </a:solidFill>
                <a:latin typeface="Comic Sans MS"/>
              </a:rPr>
              <a:t>Logiciel déjà certifié B2 2003</a:t>
            </a:r>
            <a:endParaRPr b="0" lang="en-US" sz="24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0">
              <a:spcBef>
                <a:spcPts val="60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4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-30816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400" spc="-1" strike="noStrike">
                <a:solidFill>
                  <a:srgbClr val="0066ff"/>
                </a:solidFill>
                <a:latin typeface="Comic Sans MS"/>
              </a:rPr>
              <a:t>Logiciel déjà certifié B2 06-2005 A : </a:t>
            </a:r>
            <a:r>
              <a:rPr b="0" lang="fr-FR" sz="2400" spc="-1" strike="noStrike">
                <a:solidFill>
                  <a:srgbClr val="000099"/>
                </a:solidFill>
                <a:latin typeface="Comic Sans MS"/>
              </a:rPr>
              <a:t>procédure différentielle</a:t>
            </a:r>
            <a:endParaRPr b="0" lang="en-US" sz="24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99" name=""/>
          <p:cNvSpPr/>
          <p:nvPr/>
        </p:nvSpPr>
        <p:spPr>
          <a:xfrm>
            <a:off x="6480000" y="2879640"/>
            <a:ext cx="30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Comic Sans MS"/>
              </a:rPr>
              <a:t>procédure class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19640" y="2664000"/>
            <a:ext cx="73080" cy="1152360"/>
          </a:xfrm>
          <a:custGeom>
            <a:avLst/>
            <a:gdLst>
              <a:gd name="textAreaLeft" fmla="*/ 0 w 73080"/>
              <a:gd name="textAreaRight" fmla="*/ 26280 w 7308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62B37-73CD-4486-996E-9AA754F2D3C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0:02:49Z</dcterms:created>
  <dc:creator>NOM Prenom</dc:creator>
  <dc:description/>
  <dc:language>en-US</dc:language>
  <cp:lastModifiedBy>OUSSAR Estelle</cp:lastModifiedBy>
  <dcterms:modified xsi:type="dcterms:W3CDTF">2008-06-10T10:12:55Z</dcterms:modified>
  <cp:revision>393</cp:revision>
  <dc:subject/>
  <dc:title>Facturation directe  des consultations extern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